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jeopardy_theme.wav" ContentType="audio/x-wav"/>
  <Override PartName="/ppt/media/image2.jpeg" ContentType="image/jpeg"/>
  <Override PartName="/ppt/media/image3.png" ContentType="image/png"/>
  <Override PartName="/ppt/media/thinkmusic.wav" ContentType="audio/x-wav"/>
  <Override PartName="/ppt/media/final_answer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58200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582000"/>
            <a:ext cx="294408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58200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0"/>
            <a:ext cx="44622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582000"/>
            <a:ext cx="9144000" cy="327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80000"/>
          </a:bodyPr>
          <a:p>
            <a:pPr marL="274320"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274320" indent="-274320" algn="ctr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2" marL="274320" indent="-274320"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3" marL="274320" indent="-274320" algn="ctr"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4" marL="274320" indent="-274320" algn="ctr"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5" marL="274320" indent="-274320" algn="ctr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6" marL="274320" indent="-274320" algn="ctr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eopardy_them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7.xml"/><Relationship Id="rId4" Type="http://schemas.openxmlformats.org/officeDocument/2006/relationships/slide" Target="slide19.xml"/><Relationship Id="rId5" Type="http://schemas.openxmlformats.org/officeDocument/2006/relationships/slide" Target="slide11.xml"/><Relationship Id="rId6" Type="http://schemas.openxmlformats.org/officeDocument/2006/relationships/slide" Target="slide23.xml"/><Relationship Id="rId7" Type="http://schemas.openxmlformats.org/officeDocument/2006/relationships/slide" Target="slide25.xml"/><Relationship Id="rId8" Type="http://schemas.openxmlformats.org/officeDocument/2006/relationships/slide" Target="slide27.xml"/><Relationship Id="rId9" Type="http://schemas.openxmlformats.org/officeDocument/2006/relationships/slide" Target="slide29.xml"/><Relationship Id="rId10" Type="http://schemas.openxmlformats.org/officeDocument/2006/relationships/slide" Target="slide21.xml"/><Relationship Id="rId11" Type="http://schemas.openxmlformats.org/officeDocument/2006/relationships/slide" Target="slide33.xml"/><Relationship Id="rId12" Type="http://schemas.openxmlformats.org/officeDocument/2006/relationships/slide" Target="slide35.xml"/><Relationship Id="rId13" Type="http://schemas.openxmlformats.org/officeDocument/2006/relationships/slide" Target="slide37.xml"/><Relationship Id="rId14" Type="http://schemas.openxmlformats.org/officeDocument/2006/relationships/slide" Target="slide39.xml"/><Relationship Id="rId15" Type="http://schemas.openxmlformats.org/officeDocument/2006/relationships/slide" Target="slide31.xml"/><Relationship Id="rId16" Type="http://schemas.openxmlformats.org/officeDocument/2006/relationships/slide" Target="slide43.xml"/><Relationship Id="rId17" Type="http://schemas.openxmlformats.org/officeDocument/2006/relationships/slide" Target="slide41.xml"/><Relationship Id="rId18" Type="http://schemas.openxmlformats.org/officeDocument/2006/relationships/slide" Target="slide54.xml"/><Relationship Id="rId19" Type="http://schemas.openxmlformats.org/officeDocument/2006/relationships/slide" Target="slide56.xml"/><Relationship Id="rId20" Type="http://schemas.openxmlformats.org/officeDocument/2006/relationships/slide" Target="slide58.xml"/><Relationship Id="rId21" Type="http://schemas.openxmlformats.org/officeDocument/2006/relationships/slide" Target="slide60.xml"/><Relationship Id="rId22" Type="http://schemas.openxmlformats.org/officeDocument/2006/relationships/slide" Target="slide52.xml"/><Relationship Id="rId23" Type="http://schemas.openxmlformats.org/officeDocument/2006/relationships/slide" Target="slide64.xml"/><Relationship Id="rId24" Type="http://schemas.openxmlformats.org/officeDocument/2006/relationships/slide" Target="slide66.xml"/><Relationship Id="rId25" Type="http://schemas.openxmlformats.org/officeDocument/2006/relationships/slide" Target="slide68.xml"/><Relationship Id="rId26" Type="http://schemas.openxmlformats.org/officeDocument/2006/relationships/slide" Target="slide62.xml"/><Relationship Id="rId2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0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0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0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0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0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0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0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0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0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thinkmusic.wav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final_answer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Bar dir="vert"/>
    <p:sndAc>
      <p:stSnd>
        <p:snd r:embed="rId2" name="jeopardy_them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2520" y="259092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520" y="36576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520" y="47242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3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52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4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52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Impact"/>
              </a:rPr>
              <a:t>Scientific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6212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Gen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4316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Cell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2456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it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0560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lassification and 5 kingdo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86640" y="182520"/>
            <a:ext cx="1371600" cy="1189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Grab B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52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5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62120" y="259092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62120" y="36576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7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62120" y="47242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6212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6212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43160" y="259092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1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43160" y="36576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2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43160" y="47242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3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4316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4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4316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5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24560" y="259092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24560" y="36576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24560" y="47242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2456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2456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7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05600" y="259092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05600" y="36576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05600" y="47242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0560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1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0560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86640" y="259092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3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86640" y="365760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86640" y="47242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5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86640" y="575784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86640" y="1523880"/>
            <a:ext cx="137160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Impact"/>
                <a:hlinkClick r:id="rId26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440" y="6678720"/>
            <a:ext cx="9144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Farmers” stands for this in the scientific metho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is form a hypothesis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is to describe using numbers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is a quantitative observation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An educated guess or best guess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is a hypothesis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If your hypothesis is wrong then what happens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is you make a new hypothesis?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An independent variable is this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52280" y="0"/>
            <a:ext cx="586764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Let’s Play! </a:t>
            </a: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Please listen carefully and think before answering.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Good Luck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is what you can control in an experiment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 passing of traits from parent to offspring is known as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is heredity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 different forms of a trait that a gene may have is called what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are alleles?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He is known as the father of genetics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o is Mendel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 genetic makeup or combination of alleles of an organism is known as what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is genotype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 definition of phenotype is what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is the appearance of your organism?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is the control center of your cell that contains DNA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is the nucleus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controls what enters and exits a cell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is the cell membrane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Breaks down food to make energy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is the mitochondrion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takes instructions from DNA to make proteins.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is a ribosome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is is the storage area of the cell - stores water, nutrients, and wastes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-144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Scientific Method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16" fill="hold"/>
                                        <p:tgtEl>
                                          <p:spTgt spid="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is a vacuole?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ist the steps of mitosis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is interphase, prophase, metaphase, anaphase, and telophase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 chromosomes meet in the middle of the cell in this stage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is metaphase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Daily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Double!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is the definition of mitosis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 the process of cell division, when one body cell splits into two identical cells?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 two chromatids are held together in the middle by what structure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is the centromere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Impact"/>
              </a:rPr>
              <a:t>Genetics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If your body cell has 46 chromosomes, how many will each cell have after mitosis?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is 46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 most general category of classification is thi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What is a kingdom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Some act like plants some like animal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is a protist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Definition of eukaryoti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is a cell that has a nucleus and organelles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Kingdom that has no nucleus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is Monera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Cell Parts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45820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1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Make their own foo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is a plant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e number 100 is what SI unit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is hecto-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ist three characteristics of living things.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What is have cells, DNA, respond to change, reproduce, energy, and grow and develop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do you start with in photosynthesis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is Water, sun energy, and carbon dioxide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You measure volume with this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is a graduated cylinder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Mitosis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16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Daily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Double!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Having two different alleles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is heterozygous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Final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Jeopardy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The Microscope 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Name the function of the diaphragm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240"/>
            <a:ext cx="9140760" cy="6856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is controls the amount of light going through the len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Classificationand 5 Kingdoms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4582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916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Impact"/>
              </a:rPr>
              <a:t>Grab Bag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059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91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Craig Coleman</dc:creator>
  <dc:description/>
  <dc:language>en-US</dc:language>
  <cp:lastModifiedBy>Dorothy</cp:lastModifiedBy>
  <dcterms:modified xsi:type="dcterms:W3CDTF">2008-04-23T12:10:28Z</dcterms:modified>
  <cp:revision>120</cp:revision>
  <dc:subject/>
  <dc:title>Jeopardy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51281289</vt:r8>
  </property>
  <property fmtid="{D5CDD505-2E9C-101B-9397-08002B2CF9AE}" pid="3" name="_AuthorEmail">
    <vt:lpwstr>rhutchins@clayton.k12.ga.us</vt:lpwstr>
  </property>
  <property fmtid="{D5CDD505-2E9C-101B-9397-08002B2CF9AE}" pid="4" name="_AuthorEmailDisplayName">
    <vt:lpwstr>020 - Hutchins, Reshawndra D</vt:lpwstr>
  </property>
  <property fmtid="{D5CDD505-2E9C-101B-9397-08002B2CF9AE}" pid="5" name="_EmailSubject">
    <vt:lpwstr>Jeopardy powerpoint</vt:lpwstr>
  </property>
  <property fmtid="{D5CDD505-2E9C-101B-9397-08002B2CF9AE}" pid="6" name="_ReviewingToolsShownOnce">
    <vt:lpwstr/>
  </property>
</Properties>
</file>